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F14D-6FEF-450C-B05D-49F83756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D4D-03EE-4077-A43C-BE155549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10C7-7385-4390-9489-09C7D9FE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F058-3AEB-4F48-88A6-EFBAB02A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4133-6B1C-4D8F-B59B-CFB193FC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0928-86D8-4F7E-92A9-CF06BA8B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F256-1322-445D-9BDB-BDD3C13F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6FC0-3CD6-48EA-B2AA-4E553B1B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2B91-86B0-42BF-8B0C-482FF525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92FD-06BB-4F02-B8CF-0CFAF9CD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6D50-CA7E-4E69-94F4-49B1B379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6289-5CD8-4C9B-9351-F354ADCF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3CC1-81D1-4045-8F21-1A8CF7AC365F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Use Of Natural Resourc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arth has a wide range of natural resources that are essential for our day-to-day lif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natural resources such as water, soil and wood were very important for early settlemen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 time we have increasingly relied on these natural resourc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nstance the Industrial Revolution only really occurred due to the harnessing of steam power, from burning coal to heat wat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was the beginning of huge increase in the use of the Earth'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atural resourc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ars that you and your parents drive rely on petrol, made from oi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course the biggest, and most important resource, is foo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lso the route of some of the major problems in the wor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g problem in the world is that the population is rapidly increasing; it reached 6 billion last y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these people put pressure on the resources of the world, which in some cases are insufficient, and in some cases are rapidly running ou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quently it is vitally important to try to conserve these resources, and find suitable others to replace or supplement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01:34:28Z</dcterms:created>
  <dc:creator>Dell_02</dc:creator>
  <dc:description/>
  <dc:language>en-US</dc:language>
  <cp:lastModifiedBy>Dell_02</cp:lastModifiedBy>
  <dcterms:modified xsi:type="dcterms:W3CDTF">2011-01-28T01:37:30Z</dcterms:modified>
  <cp:revision>1</cp:revision>
  <dc:subject/>
  <dc:title>Use Of Natural Resources</dc:title>
</cp:coreProperties>
</file>